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956-FC4D-4F58-9637-5DDE65DB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18C-4860-4683-B404-3B68CA27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0FC-1E64-4A06-A8C1-99399E58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E70-6237-4758-BC3E-8CBF8B5F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B13-CCFE-4DA4-B37F-CFE31457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237-89DF-4052-9EC7-748C359A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DF5-4192-4B1C-B141-25C21E4E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F8A-9C7F-4D6F-88D4-D9816696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087-2CE0-4F6D-B054-564F08A1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711-7CC0-4783-AE69-6E3EFB52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2F8-2C06-40B5-8835-725A2A21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839-9032-4F04-9EDE-6131F45A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4144-D761-4D24-A5E4-155AC667CE6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مركز الوطني للحياة البح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00600" y="327636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3657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أهداف المرك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99"/>
                </a:solidFill>
                <a:latin typeface="Arial"/>
                <a:cs typeface="Arial"/>
              </a:rPr>
              <a:t>إعطاء الزوار تصوراً كاملاً عن الحياة البح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99"/>
                </a:solidFill>
                <a:latin typeface="Arial"/>
                <a:cs typeface="Arial"/>
              </a:rPr>
              <a:t>تعريف الزوار على البحر و الكائنات التي            تعيش في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99"/>
                </a:solidFill>
                <a:latin typeface="Arial"/>
                <a:cs typeface="Arial"/>
              </a:rPr>
              <a:t>عقد مداولات للتحدث عن البيئات تحت الماء، المحلية منها و العالم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99"/>
                </a:solidFill>
                <a:latin typeface="Arial"/>
                <a:cs typeface="Arial"/>
              </a:rPr>
              <a:t>منح بيئة آمنة و واقعية للحيوانات و الأسماك و النباتات داخل المرك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بنية المرك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زوار المتوقعو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تسهيل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مرات للمشي تحت الماء خلال مياه البحار الاستوائية و البار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ميزات أسماك القرش و الدولف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أماكن لسباحة و إيواء السلاح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توفير مأوى آمن للفق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أماكن للتعلي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قه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99"/>
                </a:solidFill>
                <a:latin typeface="Arial"/>
                <a:cs typeface="Arial"/>
              </a:rPr>
              <a:t>محال للتسو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904080" y="449568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شريحة الرئيس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1:15:40Z</dcterms:created>
  <dc:creator>HEATHER</dc:creator>
  <dc:description/>
  <dc:language>en-US</dc:language>
  <cp:lastModifiedBy>16:47</cp:lastModifiedBy>
  <dcterms:modified xsi:type="dcterms:W3CDTF">2005-01-10T12:41:42Z</dcterms:modified>
  <cp:revision>9</cp:revision>
  <dc:subject/>
  <dc:title>National Sealife Centre</dc:title>
</cp:coreProperties>
</file>